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2540-FAE5-4C0E-974F-9E8F3BF4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700-31AC-443F-B085-FCA1B035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CA3-C411-41A8-864D-40701A1E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BD1-1033-4729-B38C-17413F13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11FB-2F7B-4794-9698-74EBFB20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5983-FE2E-4A04-B71A-09DA74BC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D10F-FB22-4F77-BAAC-35FCFF98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8BFE-83C5-4E63-8B77-94926A8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61AA-34F0-4E26-8783-B2C19D0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B5EF-0D9A-49B8-8272-EA3B8EB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C27F-DBEF-45C5-907E-760C207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A13-BA9D-4C92-8B19-0759221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1CA4-1FE4-4322-AC39-2DB398E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4022-79B1-4C15-9106-AE37D081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4806-EBD6-4697-89E4-CCFCFA5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DA7C-7FF9-4466-830D-FB1AED61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A2D7-B06D-40BD-87F7-5EB87DC6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0EB-0B6E-4325-AD1D-B05869D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63C-E013-4112-A457-A3B383B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C84-98C8-4852-BA7C-DC3947AB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926-48B6-415A-94DF-7378E234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A38-F095-4606-8684-031B189F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63F-164E-4C2E-877F-A210079B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C3F-3AE7-49B9-A3FF-23CF6BEC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71AC-5445-4F6E-8864-8C0630239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28D-5FD4-42D5-9126-E5E65E11F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etter Tap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spelling words or vocabulary with your whol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etter Ta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word from word wall or vocabulary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nger students may need a small group of words where they can be seen easily for this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the word and some of the letters, then tap out the number of letters l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on a student to complete the spelling of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student has spelled the word correctly, the student uses the word in a sentence or gives the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tudent then chooses the next word and repeats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18:38Z</dcterms:modified>
  <cp:revision>12</cp:revision>
  <dc:subject/>
  <dc:title>Light Up the World A vocabulary game from Mentoring Minds Grades 1-4</dc:title>
</cp:coreProperties>
</file>